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FF3-B148-4504-A4CA-2244D497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7C1C-B213-4172-B9DE-A811BF4D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6350-FC09-4DBD-8C8F-48EC5C1B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B17-1F49-4721-8B83-0A11A3E8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D25E-1BB7-4199-9AED-25F7C812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8AE4-97C3-46CB-8AF7-48DD46A6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8363-9F7F-4777-B53C-3B32D908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7246-6C2C-4702-91C5-084C0B1F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4D78-D999-4AA5-A28C-80B5532A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1249-554E-41B6-9ABF-911F8EE8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BE57-52FC-4FC5-8CD2-8B679C5A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9B9E-A8FA-4B94-8D08-09D66833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B10B-D540-4C4C-B2CC-9D4F961D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E971-5CE3-4CFF-B714-B1CFA8C9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585F-0EB1-4340-A6E9-6C5BCA21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37C3-80B8-4D76-96EB-79A1B33A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C7BF-D155-4011-A708-F4FC86C7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DA2F-B9D1-4CBC-8F52-7B352D9D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5B64-A036-4FA6-AACC-C0D505EA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095-D2B8-405C-8FE3-D6397355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C46-0258-422E-806A-DDB7DE20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5DE-7377-4A04-8A77-4FBCBCB7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BBCE-0924-4EE6-A223-8DCF22E9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3DF6-00C2-45D9-B1CF-BB02133A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1027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35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A20C-4468-4F6D-94CA-C31877A1A4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F1A6-707F-4F75-AB8F-B6ADCBFA7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cument Based Ques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DB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C:\Documents and Settings\amckellin\Application Data\Microsoft\Media Catalog\Downloaded Clips\cla5\j0412754.wmf"/>
          <p:cNvPicPr/>
          <p:nvPr/>
        </p:nvPicPr>
        <p:blipFill>
          <a:blip r:embed="rId1"/>
          <a:stretch/>
        </p:blipFill>
        <p:spPr>
          <a:xfrm>
            <a:off x="838080" y="3429000"/>
            <a:ext cx="1708200" cy="2176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Documents and Settings\amckellin\Application Data\Microsoft\Media Catalog\Downloaded Clips\clad\j0433797.png"/>
          <p:cNvPicPr/>
          <p:nvPr/>
        </p:nvPicPr>
        <p:blipFill>
          <a:blip r:embed="rId2"/>
          <a:stretch/>
        </p:blipFill>
        <p:spPr>
          <a:xfrm>
            <a:off x="6477120" y="3429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is a Document Based Question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BQ, or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ument based questions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re questions that focuses around one or more documents. The documents can be a graph, cartoon, short excerpt, picture, etc, basically anything that you can get information fr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C:\Documents and Settings\amckellin\Application Data\Microsoft\Media Catalog\Downloaded Clips\clad\j0434859.png"/>
          <p:cNvPicPr/>
          <p:nvPr/>
        </p:nvPicPr>
        <p:blipFill>
          <a:blip r:embed="rId1"/>
          <a:stretch/>
        </p:blipFill>
        <p:spPr>
          <a:xfrm>
            <a:off x="3581280" y="45720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urpose of a document based question is to assess your ability to formulate (or figure out) and support an answer based on documentary evid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C:\Documents and Settings\amckellin\Application Data\Microsoft\Media Catalog\Downloaded Clips\cla9\j0424230.wmf"/>
          <p:cNvPicPr/>
          <p:nvPr/>
        </p:nvPicPr>
        <p:blipFill>
          <a:blip r:embed="rId1"/>
          <a:stretch/>
        </p:blipFill>
        <p:spPr>
          <a:xfrm>
            <a:off x="3886200" y="4572000"/>
            <a:ext cx="145404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reaking Down DBQ</a:t>
            </a:r>
            <a:r>
              <a:rPr b="0" lang="ja-JP" sz="4400" spc="-1" strike="noStrike">
                <a:solidFill>
                  <a:srgbClr val="ffcc66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are some tasks you could be asked to do in a DBQ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alyz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Break a topic down into separate parts and discuss each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iciz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Make judgments. Evaluate comparative wo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f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Explain the exact meaning, specific to the course or subje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Give a detailed account, listing characteristics, qualities and par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cu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rgue the pros and cons of an iss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lu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Give an opinion or cite the opinion of an expe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llustr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Give concrete examp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iz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Give a brief, condensed account, including conclus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the documents, analyz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tterns of trad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period 1000-1450. In addition, identify possibl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ultural consequences of trad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is time peri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question asking f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re there recognizable patter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What are the consequences of cont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04:58Z</dcterms:created>
  <dc:creator>teacher</dc:creator>
  <dc:description/>
  <dc:language>en-US</dc:language>
  <cp:lastModifiedBy>Microsoft Office User</cp:lastModifiedBy>
  <dcterms:modified xsi:type="dcterms:W3CDTF">2012-05-28T19:13:39Z</dcterms:modified>
  <cp:revision>12</cp:revision>
  <dc:subject/>
  <dc:title>Document Based Questions</dc:title>
</cp:coreProperties>
</file>